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340-5703-47DC-8662-4A59D5DC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5A26-DDF4-4DD7-B811-55CA3FCF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FFB-0A91-4E56-BD16-D41F1C8D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7F65-9F97-4D96-A380-494C2671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39F-270E-4976-A0B6-7545F393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C4C-9200-44EB-B7E1-16D011EE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102-9E2A-4B30-ABD5-47F7991D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2DC-A822-4CEE-B17A-4A534A7D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312-DA27-4842-91E2-CF86D424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055F-1F14-4906-9958-236077EA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9128-E34A-450F-B5BB-519815AC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57AC-863F-475D-AB21-9557E46B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BF92-C228-4865-8621-3C2875AAE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streferat.ru/referat-43914.html" TargetMode="External"/><Relationship Id="rId3" Type="http://schemas.openxmlformats.org/officeDocument/2006/relationships/hyperlink" Target="http://revolution.allbest.ru/culture/00053719_0.html" TargetMode="External"/><Relationship Id="rId4" Type="http://schemas.openxmlformats.org/officeDocument/2006/relationships/hyperlink" Target="http://www.mystic-chel.ru/primeval/culture/192.html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СКАЛЬНАЯ ЖИВОПИСЬ В ЭПОХУ ПЕРВОБЫТНОГО МИ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ыполнил ученик 7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саков Александ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ыктывкар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Главный вопрос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очему люди рисуют??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329320" cy="15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акое значение имеет наскальная живопись в настоящее время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143080"/>
            <a:ext cx="811548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ервобытное искусство отразило первые представления человека об окружающем мире, благодаря ему сохранялись и передавались знания и навыки, происходило общение людей друг с другом. В духовной культуре первобытного мира искусство стало игра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такую же универсальную роль, какую заострённый камень выполнял в трудовой деятельност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Что такое наскальная живопись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рисунки первобытного человека на природных каменных поверхностях пещер, навесов, скал, крупных камней, сделанные минеральной краской. Первые рисунки  наскальной живописи датируются началом позднего палеолита - 40-35 тыс. лет 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 каких частях света найдена наскальная живопись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42640" y="3500280"/>
            <a:ext cx="7543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214200" y="1928880"/>
            <a:ext cx="8572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ые находки сделаны в XIX веке в пещерах Пиренейских гор. В этом районе расположено более 7 тыс. карстовых пещер. В сотнях из них обнаружены наскальные изображения, созданные краской или выцарапанные камнем. Некоторые пещеры представляют собой уникальные подземные галереи (пещеру Альтамира в Испании называют «Сикстинской капеллой» первобытного искусства), художественные достоинства которых привлекают сегодня множество ученых и туристов. Наскальные рисунки древнекаменного века называют настенной живописью или пещерной роспис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9740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Что мы узнаем о быте народа по наскальной живопис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1628640"/>
            <a:ext cx="85438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И в живописи, и в скульптуре первобытный человек часто изображал животных. Склонность первобытного человека изображать животных именуют зоологическим или звериным стилем в искусстве, а за свою миниатюрность небольшие фигурки и изображения зверей получили название пластики малых форм. Звериный стиль — условное название распространенных в искусстве древности стилизованных изображений животных (либо их частей). Встречались сюжеты с ранеными или убитыми на охоте животным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Изображения, особенно человека, стилизуются, схематизируются, иногда почти сводятся к знаку. Это дает возможность усиливать динамику, ритм. Легкие, удлиненные лучники стреляют в бегущих оленей, стремительно несутся навстречу друг другу сражающиеся воины. Своеобразно стилизованы человеческие фигуры в кавказских петроглифах (изображениях, выбитых или выгравированных на камне): люди в лодках обозначены просто черточками. первобытные люди умели выразить в росписях, рельефах и гравированных изображениях, связанных с обрядами. рисунок исполнялся не одной краской, а несколькими, он приобрел объемность, чему способствовали переходы тона. Первоначально появились знаковые изображения, например отпечатки ладоней и "макароны" - разнообразные переплетенные линии, проведенные пальцами по сырой глине или острыми резцами по камню. Возможно, человек видел в "следах", оставленных своей рукой, подобие следов лап и когтей животного и хотел своими "следами" символически утвердить свою способность победить зверя, поэтому отпечатки рук человек не перестал наносить и в дальнейшем, когда уже научился создавать изображения животных. С развитием охоты стали изображать фигуры животных и человека. В неолите с появлением земледелия наскальное искусство постепенно сошло на нет, так как стало развиваться рисуночное письмо. Процветало и орнаментальное искусство, которое имело ритуально-магическое значение и все более использовалось для украшения предметов. В эпоху бронзы создавались изображения, напоминающие карты, на которых можно различить вспаханные поля, тропинки, дома, загоны для скот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В наскальной живописи можно выделить пять основных мотивов: человеческие фигуры, животные, орудия труда и оружие, изображения местности, символы и идеограммы - повторяющиеся знаки (стрелки, палочки, кружочки, кресты, точки и др.). Эти изображения не только наносились красками, но и вырезались. Необходимо отметить еще ряд особенностей: редко встречаются изображения с выраженными индивидуальными чертами, практически отсутствуют растения, цветы, плоды и пейзажи. У ранних охотников существуют рисунки излюбленных пар животных: бизон - лошадь в Европе, слон - жираф в Африк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формационные ресур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bestreferat.ru/referat-4391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revolution.allbest.ru/culture/00053719_0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mystic-chel.ru/primeval/culture/192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9:10:42Z</dcterms:created>
  <dc:creator>НАСТАСЬЯ</dc:creator>
  <dc:description/>
  <dc:language>en-US</dc:language>
  <cp:lastModifiedBy>студент</cp:lastModifiedBy>
  <dcterms:modified xsi:type="dcterms:W3CDTF">2010-05-14T11:07:39Z</dcterms:modified>
  <cp:revision>39</cp:revision>
  <dc:subject/>
  <dc:title>НАСКАЛЬНАЯ ЖИВОПИСЬ В ЭПОХУ ПЕРВОБЫТНОГО МИРА</dc:title>
</cp:coreProperties>
</file>